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bomb.wav" ContentType="audio/x-wav"/>
  <Override PartName="/ppt/media/image6.png" ContentType="image/png"/>
  <Override PartName="/ppt/media/image7.jpeg" ContentType="image/jpeg"/>
  <Override PartName="/ppt/media/image15.jpeg" ContentType="image/jpeg"/>
  <Override PartName="/ppt/media/wind.wav" ContentType="audio/x-wav"/>
  <Override PartName="/ppt/media/image16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4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5BA-E83E-4158-8FD3-9F8E7697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F8A-7B89-4CC3-8CCE-A6D6C351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5A8BE-9C2E-4403-8E84-EBA57C80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4F423-9002-43FC-A257-932F163C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BF7F6-DBB1-4FC7-907D-67094E4F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C9658-C0BF-41FB-82C5-A4B6F1A7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4F901-709F-481B-8553-D1527A14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A5806-1109-40EC-86C3-7C494E08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A4C64-5EA9-4D06-9ABD-AD29EBC7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7503D-0840-4648-AE09-EF99EC30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3A1E7-202E-4169-A0BC-D5E08D14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9AE2B-8DF1-457F-B7EB-1BF9EE42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740-74D6-4A5D-8FF6-087458FA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CC8B0-5EAC-4002-BFC5-D7C9B1CC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FE3FE-530D-4903-8678-EF21139A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5ABAB-D0E3-4F70-82E6-9A6AAECA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D9263-9112-4357-A7A9-559202EF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7D3ED-6B31-4E22-8072-EF52E506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EA032-DCE3-4409-9C15-C13F8672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95766-A9BD-4986-8B29-B97A3244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55CCA-1D3A-4496-B257-0C6142FE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B6775-E25E-497B-9D3B-5A4974AA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2633D-A899-4409-B327-5AF0F5DE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1E6-17D5-477E-BEED-1458FB47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A1016-7298-40A9-8443-EB4DE5CC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D34CE-206E-473E-B936-CA9EE979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A5562-AD5D-44FF-8CD4-137B257C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FE437-2132-4216-A093-5A853D65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5A894-2EB2-457A-8EE1-E1270C15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F8C51-F6C1-4514-8222-27FE6B7B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D83C8-C25E-4301-B84F-BD8B3981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CFA1F-35D6-4856-9E69-FC6ED877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CBE82-5DF8-44C6-8867-BA134117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1DEB4-539C-4F8A-822E-121567B9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6107-2B1E-44C8-8D71-18CBAEAB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7FD69-401B-4AC9-9F67-39720E5A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431F2-0A6A-477A-AB7A-A8796B54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EBFC0-70BE-449E-A282-05A1032F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E0FB8-0F92-4E8A-8A29-CFA4D324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F6758-7B77-42A2-A543-CACE2C87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EE33D-9C12-4121-B129-FDB89B6F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5E612-BBC0-4422-9A14-4AC5FEA1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94D57-51CA-4E46-9849-28006CD0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94FED-73C9-4676-88E9-CAE7A790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954E3-58D6-439A-9960-13E75607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87D9-15DC-49F4-AB1F-D7DCBB18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F2B1F-0490-4815-B568-6CBC2F5C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AD3AF-C116-4BB0-837E-1B206B52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B0EC4-0E21-4EE7-94F1-8E8C2353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ECE44-5819-4DFC-A948-EDE87047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D5124-E4E2-42D9-8839-5B098923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96945-AC7C-4D62-AC8E-D12B17BB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089BE-3E7A-4ECC-A89E-7530DCE6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6A03F-8925-448D-8102-B3A673EC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C0B51-F75D-4014-858E-E4076EE9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EFD5E-3677-4EF5-BAD9-455F6060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A271-D02E-4B90-B656-D7DE143D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7CE99-13FC-4F9B-AA99-E2ADF012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F3E1B-3B99-4367-A8A7-28F68325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829B03-D0FA-4CAD-83DE-B5305690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8F873-FADC-4875-96DB-8A862889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B10891-C578-47C1-9847-37054F4D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FFC7C-2E12-4497-9242-8DF7E1B9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0819F-FC62-4696-A9F7-54E7E48C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C8A11-D1D7-45C0-A24B-1B5D8006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5A2083-82D2-4B9E-BE91-147BD88C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05DF8B-E2BC-442D-958B-F9EFAF9D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B1AC-3020-474F-B3E2-BD913DA9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E6A35-F659-4EEC-B3B9-9825423B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F7CDE4-A5D7-4D85-91FE-271B28B9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255A9-50CF-4541-8EAE-F0B82F9A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20F621-269A-44D3-B6FE-2E96A3C5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EB9C63-2DA1-44F4-AFA6-49303620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A2F706-04D9-42B7-8BD1-3ABCD4D7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493424-4A48-4287-AC73-647C0F3A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422132-EFF2-447A-AAD5-630080F7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B7985-7E92-4102-9A64-F2F315D1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D38380-66E3-4561-B514-E80F640F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DF6C-59DD-401F-AEFC-2C322E9C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348FA0-D5A9-4682-B95A-F0099FDF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A0A77A-91B8-41DF-A9AE-F35E47DB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A6CDE4-68E0-4BCD-9BAB-16B38EE2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465843-A283-4346-A424-E36D98AF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45F4CA-E774-415B-A9CE-148A9967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732F8C-77EE-4461-93DD-21D2AA33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2E1784-43EC-40C2-A076-AF24F3C7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C332C-88C5-488A-9AB4-B831A0C3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4ED97-0314-4B56-8635-82AAF09E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6D7FA0-87BF-480E-87FF-2E5A84F6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E925-0118-457B-AD1A-12125BA3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59185-C745-41BC-9D63-4B2181A9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A2BF96-1CB4-46FD-965D-370C9E97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63B26E-832B-4B18-A0E8-1F446670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B38CED-8A72-4DCF-8755-FE382AC6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D047B3-C8EB-49FF-994A-7956611B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0C0B14-B381-4655-97B1-10853F7E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8BBCB0-4C46-40D9-9C02-0C73BB93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50455B-DBD1-4808-A59A-DB6D376A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BEC58-AAF3-4E56-AB22-1DC46204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4C5F7E-67A9-445F-A41D-D4B549DC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73F0-9C5F-4A46-A411-D4A2FEEE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5D88B5-B1FB-4D0E-BD8A-BD948B3A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927DB-8599-4268-84B9-F5910B01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8158CE-3722-4069-AF6D-ADF7A5E1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BC29D1-EFCE-4FF9-A20B-B09C52EE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C4CD29-3037-4899-9506-5A46ED03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B3FBA6-CE99-44E6-B6F4-AB257E82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2D8093-3C7F-4C9D-BE0B-4C0EB2F5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39C9F5-22F5-41C5-A525-45B89DEF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ED977F-CC1F-44A0-BE73-A0AF39EE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2B5109-9726-421B-AA60-5767742D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82AA-F851-45DC-969B-4C60B8E2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8A2E-697F-4853-8A3B-E32F820E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8B4886-AF99-49F5-B385-C5167BD2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BC124E-4226-44C2-8810-85FCF044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BAC296-A344-443E-82EF-4C728D9D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7211D4-B560-4B51-86FE-9D5E3BCB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A13CE8-6038-4A8A-9591-726DF388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842B7B-B9D3-4317-8100-C1688807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C5526E-D6BA-4418-848F-D2D1C712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216B0E-D807-4151-BC98-6DC8B238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6AD09F-41BC-4B09-A71C-44E69908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34243B-56BE-4898-A4F4-5D370F57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F2FF-6F5A-4212-83AF-E0FC6E2E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EBDE01-2C44-4066-A527-012DA120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F85549-8459-4B4F-B81D-1C4955B9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D1D47D-6DEB-4ACE-8CDB-E76C1DE6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4DC204-E359-4688-AD84-B1DA0108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76E159-179F-4D19-A0A6-257D82FA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295AA9-5C05-4BF2-BE84-ABC46BD9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ED4DC9-BB00-4389-AC0E-2979F4E2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7BE4CC-B788-477D-9BFD-FE66CF70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F8A3F3-1AB3-43A0-8884-99868091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5852B4-E149-4D1E-8BEE-C6D86640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5EC8-E107-4D79-919B-6A870AA2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1ACEB9-F3B8-47D4-B0C7-BCB10A3D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FE2BD7-EE76-4BA5-9893-C98F7624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08DA64-28F7-4682-80CF-5CB34834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40D707-B5B8-4645-BF09-1C70EAE9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25BAD7-46AA-40D5-94D7-955CD1B1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5EE8A8-28D0-4693-AD6C-AA984C66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33D852-5E23-4C00-8341-5138D404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B6E66F-FBB1-4A42-9C3D-01E104BC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2386BA-CCD2-4302-8CB0-A8640636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621CFD-EE8C-4E52-820D-B6B03B9F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F6CB-EA89-4DF7-8521-880263D9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0738EA-2D2A-4672-A81C-57B7C47A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4D3CA0-715F-46C3-B6ED-00645CA6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10CE86-7327-49A7-BE6E-60C0A7AA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B46B79-B35B-4CDC-91AE-811DB88C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6A90F4-4F56-42B3-955C-23D27712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2D1FFD-43A4-4012-B48D-1C6CC556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122BB0-7FEE-4284-B7FC-E09B7188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F66C10-E006-47CC-9439-4F5C5480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8FF50F-9B53-4107-8F8E-AB4479B7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49F299-7409-4C01-BF7E-139E2879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F427-8245-4CA7-8934-B524DC89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322BBE-61FB-459A-942E-6F95DB9F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5AF975-CEE5-49C0-83C6-6B27F7B1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FCB89F-1805-4FD4-AB74-B59DC14E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9E5EBE-409C-465F-887C-7A8CDE86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BAA2F0-9264-4162-AEAB-3BDC79DD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91A577-3299-4E01-B48C-13620EAB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A68CFB-39A1-4779-99D9-9D7FC39C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2D18C1-FCFB-4357-BFA9-A1EAA12D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235726-0852-4AF7-85D5-D2A8D1B4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83A7EE-1840-4390-A4AE-C6538BFA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8252-FC73-44FF-95D1-B8103A90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7D8A47-9ECE-47A9-9E91-13C0643A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13E23F-B879-4A8D-8ABB-69DC02B0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8A812E-0E7C-4EF0-B768-24D2F93F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D07224-EA6A-44E3-BF35-DB898888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05A420-90E0-4F6F-B486-36419F52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EC63DA-CDCD-4D3F-8AA2-B383A522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DD9320-4D70-4FB3-9063-8A8D11FB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186C45-9603-4F80-9B6D-3C066503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50974B-91E3-4F7A-9D96-8464192C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403946-FF02-4E1C-BD47-C1F8F8D5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A802B-4E12-4847-8719-1A561633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5D86B9-DE02-4462-AB05-05291641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D2C0FC-0AAD-4F39-8D9F-1095B63E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D86B77-2923-488C-87F5-98CEFDA1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BCC999-4519-4AA8-AEC0-1BC9FF50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68898B-903A-4BFC-9B67-F10FE796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980E3B4-EACD-4B85-B67F-4A879950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42646D3-7317-472A-AF62-CE1220E3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CBC1066-A403-49F0-839B-36A67109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384961F-9C18-4D9B-9039-C8263161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D846365-664E-4AE6-B295-0431DEB6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7FACC-430E-453A-8292-CFEE0384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C8C9070-E425-4D50-8C0E-6597A167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22DE96A-3CFE-4BF0-B756-2C7AA824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D7862C1-DFED-490C-A8E1-DC32CAD0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7139851-0612-4505-9213-8143EEB4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E1D6B7C-F374-45E0-801F-A626812A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AD9D574-FB0B-4989-B5BC-0F83D1B1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0F9665D-B42D-4780-A28B-552A273B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A25CB68-F18F-408F-B230-7CB5C980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9FA07E8-C716-4C91-A1F0-1354CFC4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A8D6F6F-FD7D-45CE-8817-284F50B5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29ACC-BC62-4AF4-9291-779F6D38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577DF95-132E-4015-A329-551F52A4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DD92CB0-E1B6-4D97-BC61-45F532AD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916DCAF-37D1-4162-AB5E-0B6C4D93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B64FCCE-89AC-44C8-95D5-C80AB03E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F44987C-0552-437F-8450-AFF577BD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8A10251-2FA6-4A98-93B2-C1CD101A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F3A076C-AB64-44F2-AC18-25707DF1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A32A123-0480-4073-B14A-3B254B00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AACA991-1F43-49E1-8B3B-6CFA6B42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03D9BF-44E9-4328-8B54-621FB6EB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61271-9148-4FCC-A86E-955EB317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BC0050-3A32-49C5-9D97-72273BB2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066E5C-DB54-4D40-B199-0790D861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B1502B-58D2-4932-BE1B-13D9B260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9BA85E-C1B4-46B1-A6B9-822F5F01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98EF55-1F8D-4700-9D06-8F5C5F99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ED3BF0-96D8-4F1E-BF07-C7354521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887ACF-551F-4A60-8124-DC399A51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861C0C-2890-40D0-A9EE-55F39897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B9B797-3DAA-4E18-AFB4-16DF8D11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31510A-2ADA-4EEC-9B87-4C957838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3EF-7F62-43D1-9774-AEA650B2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B6699-22C8-4191-8CAA-927E8377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806C29-C89F-4F49-9290-75CB6F49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401098B-62C8-4079-9863-8913AAED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6B1DEE1-169A-4950-BF8A-53D5A777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A20F468-20EE-477A-BCD6-BC1F5E84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241C6FB-DE51-4A68-B479-35B3C8F0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19E3F2D-1EBD-4E5A-9909-C9A0186A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0E8F022-9FED-4538-AA2D-A5AE2DFA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CD7CEB9-1B23-41B5-85F5-24330B0B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6C1F748-E142-43B3-8D91-A3A492DE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53CFFED-0DC3-4EBB-B9A7-AF6D1660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F7BDD-3845-40CD-9AE7-7FD8551F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B7BCFA4-50E3-4EE5-92EE-669217B5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93BAF3C-0694-4706-A57C-14B5A468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92D4718-9734-4783-86A5-115694C1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9AC67-B67D-483D-8F91-C36D8C7D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F8DBA-0072-4C0B-8B9B-C9AE6AB9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827A2-B2C6-4762-A3DE-D95CB213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140F3-BED8-4969-9DAB-950116FF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1050-7BB6-4B48-86ED-1D0EE2E4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8DE88-8CCC-4105-BDDB-807C3A0B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3EF0E-6F1D-4543-B8D0-E127DE99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8093E-497F-4618-AE3A-CF979903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973-BB99-4486-99B3-B6113A0A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8CCFF-C694-4B7E-869A-9CC5A840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DFE4B-0DCF-4FDE-B76C-C18F1418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F0C58-B0DE-4488-8CF7-D6975476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D93CD-95C6-4431-8A99-3525CBB1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EF2C6-712E-41EE-9AA8-66C4A4E0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C7C80-A890-4CEB-A92C-29F32E92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5A4BD-94BE-4F55-A8CA-D2187D54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E04ED-B511-4E03-AA40-3C4735AF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9E269-32A7-43B1-A8E9-A5E01780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06428-0290-4F58-A1B4-31D5DF21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BB9-DD9C-4927-BD49-76DB9ABF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428A6-622B-4AEB-848B-22897332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723E0-B739-4CA8-B075-C903C4FE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A9491-9238-4B96-8265-D0FE3DAF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8991A-E34B-48F7-960B-FCE39372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B3E54-AA29-4C15-B6B0-4F96D751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6B7EB-7F12-41F6-90AC-F1DD0943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C1C9C-E194-4A6A-9FE5-0971A71C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DEA6B-86D2-4B2E-9EF8-F97FA1D7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6CE08-81AA-4481-AED0-11CAA821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DF2FD-51A5-403E-8CBD-8AFF558A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F70-D96A-43FE-98EF-63944280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4FC3E-7836-4BAA-9111-15DC21EA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040E0-2F42-451D-B18C-DE3DBC87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C91D4-99C0-4256-947A-06BEACEF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75E39-F0EB-430A-A27F-D8AF9E42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530DC-F081-41EB-BB31-C10D1FA3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25F99-FC3E-420B-89E5-6521D16A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813AD-98CA-4E87-AFAF-36AC9B71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9CBB2-2DE9-4788-9BDE-5E2EC9F7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E837C-87EB-4B03-BD20-C2C20BF2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25EE3-E9B3-4114-9623-74B95719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6E8-0291-4113-AA6B-B1924C52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4BFD7-EF61-4A9A-B845-5127C37A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23ACD-7E30-4618-A4DE-CA054053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382F4-1499-4FAE-AEBF-3B78A0C6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FBF17-D245-4A1E-B04E-D247DCEE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C5355-FEEC-4BEB-AD17-1F559C52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726DB-947A-4B7A-97AE-64E1894B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97294-5445-40A9-A802-9847A647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C4F91-9CA6-471D-B757-8786A995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B23B3-EA9E-4D9A-801E-0F8A3C57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9C7AB-E398-4C86-86DF-A8DA2A19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851-3986-41C9-83E5-FFEFD68A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C28C3-8850-478D-87BB-40174DD5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48C96-2AA3-4D5F-8320-39CBB3DE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F8E5C-9A02-49F7-B6A7-7C0EEF87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ADCEC-1FE2-4DEA-8623-4432C9D6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07780-A39E-42DB-B166-AF2A9337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C9546-4560-4995-B897-4772776A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DB210-FF5F-4CE4-A389-EC30D48B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E1877-77B7-4445-8046-6EA3EF9A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E2CB2-1A0A-4977-B1C3-D34728C3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524D3-55B4-4599-9868-37E84064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E03-81C6-41DE-B3C9-063ECE8E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CEB02-1D0A-4853-8E60-05860E47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43463-1809-45D2-936B-31CF528D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59900-77E2-4E9A-B113-65B26C44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CB8AF-43B8-4011-9C01-E43BD91C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AA6B5-314E-4FF0-AA1B-D8B8AB0D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231CE-64FF-4DDD-8A95-471F2EF4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E251E-A942-49B4-BA7A-0D56A11C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C43EE-D2C0-4211-B61D-DEBC4C66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8FD08-2B37-4315-9526-4B87E592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0C722-77AB-4D91-831A-31B8B28A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94B9-AF52-43A4-8736-41EF3E93F4B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7ac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42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2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pic>
        <p:nvPicPr>
          <p:cNvPr id="42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4452b"/>
              </a:gs>
              <a:gs pos="100000">
                <a:srgbClr val="eb9385"/>
              </a:gs>
            </a:gsLst>
            <a:lin ang="16200000"/>
          </a:gradFill>
          <a:ln cap="rnd" w="3240">
            <a:solidFill>
              <a:srgbClr val="994733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4452b"/>
              </a:gs>
              <a:gs pos="100000">
                <a:srgbClr val="eb9385"/>
              </a:gs>
            </a:gsLst>
            <a:lin ang="16200000"/>
          </a:gradFill>
          <a:ln cap="rnd" w="3240">
            <a:solidFill>
              <a:srgbClr val="994733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5d1d7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5d1d7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95C8-1A98-47FD-95BB-87C35C1728E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7ac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47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7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pic>
        <p:nvPicPr>
          <p:cNvPr id="47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5d1d7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5d1d7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CD97-338C-4F90-8FDB-C7F3DE6452D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46b8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BC94-338B-4859-954B-03D2DA80A07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7ac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6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6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pic>
        <p:nvPicPr>
          <p:cNvPr id="56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5d1d7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5d1d7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95EB-4C27-4402-ABDB-37100933025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46b8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3FE4-B191-44FD-AA9D-FE7EC30C637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7ac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9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650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51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pic>
        <p:nvPicPr>
          <p:cNvPr id="653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54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4452b"/>
              </a:gs>
              <a:gs pos="100000">
                <a:srgbClr val="eb9385"/>
              </a:gs>
            </a:gsLst>
            <a:lin ang="16200000"/>
          </a:gradFill>
          <a:ln cap="rnd" w="3240">
            <a:solidFill>
              <a:srgbClr val="994733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5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4452b"/>
              </a:gs>
              <a:gs pos="100000">
                <a:srgbClr val="eb9385"/>
              </a:gs>
            </a:gsLst>
            <a:lin ang="16200000"/>
          </a:gradFill>
          <a:ln cap="rnd" w="3240">
            <a:solidFill>
              <a:srgbClr val="994733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5d1d7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5d1d7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0621-7521-4A18-BB31-D1C88081D6E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8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0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1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2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3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4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5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4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758A-FFB0-4F09-BDF8-E2348FC4B24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8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1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2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3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4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5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4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1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CF34-F874-4F0E-B3CC-926AFB4A9F0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8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9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0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1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2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3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4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5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6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7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ftr" idx="5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dt" idx="5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AB2D-F3F2-4628-BA80-3E581F4C130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8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5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5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26AD-F1FE-4E6F-BAE7-AEF079DC623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A4E0-3B52-4D37-9454-C0DF48531B9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1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2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3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4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5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6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7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8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9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0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2C0E-C259-4B50-8A7F-DBFE0B6700C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dt" idx="6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ftr" idx="6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sldNum" idx="63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2938-1512-4E14-9DB2-47E4F044CA5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3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5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6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7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 type="dt" idx="6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 type="ftr" idx="6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 type="sldNum" idx="66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963C-DD74-4053-874D-D91D835ED93E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0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1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2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3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4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5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6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7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8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9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sldNum" idx="67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102C-F17A-46A2-B6A2-650C6C7F803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dt" idx="6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ftr" idx="69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2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3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4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5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6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7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8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9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0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1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Num" idx="7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8815-FDA1-4725-8C73-476B3262F40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dt" idx="71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72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4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5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6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7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 type="dt" idx="7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 type="ftr" idx="7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 type="sldNum" idx="7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B9C0-74CC-403B-9130-35F8836682B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4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5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7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8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9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0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1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 type="sldNum" idx="76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21AA-AB9E-4032-BFD8-94448E492D8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 type="dt" idx="7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 type="ftr" idx="7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7ac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9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pic>
        <p:nvPicPr>
          <p:cNvPr id="9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46b8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1E66-3094-44D6-98F6-056A61BA64D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420A-F301-42CD-8244-5D81EAEDB30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1CE4-09CA-4619-ADB7-9818F1F26EE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3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3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grpSp>
          <p:nvGrpSpPr>
            <p:cNvPr id="235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3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B51D-3C21-4666-ACF0-F0EFDB8DCDB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8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8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grpSp>
          <p:nvGrpSpPr>
            <p:cNvPr id="285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8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13FD-6A99-4CA8-B965-CA01F991278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20E0-8FE1-467B-A088-80C2C698457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a1280b"/>
              </a:gs>
              <a:gs pos="50000">
                <a:srgbClr val="f06d56"/>
              </a:gs>
              <a:gs pos="100000">
                <a:srgbClr val="a1280b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375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376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7aca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grpSp>
          <p:nvGrpSpPr>
            <p:cNvPr id="378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379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pic>
          <p:nvPicPr>
            <p:cNvPr id="381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46b8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C1F9-DA52-4D0A-AB47-76D0AD09C9F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itle 1" descr=""/>
          <p:cNvPicPr/>
          <p:nvPr/>
        </p:nvPicPr>
        <p:blipFill>
          <a:blip r:embed="rId2"/>
          <a:stretch/>
        </p:blipFill>
        <p:spPr>
          <a:xfrm>
            <a:off x="603360" y="-6480"/>
            <a:ext cx="7785000" cy="1768680"/>
          </a:xfrm>
          <a:prstGeom prst="rect">
            <a:avLst/>
          </a:prstGeom>
          <a:ln w="0">
            <a:noFill/>
          </a:ln>
        </p:spPr>
      </p:pic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-1143000" y="6210360"/>
            <a:ext cx="5943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ichele Cochra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5" name="" descr=""/>
          <p:cNvPicPr/>
          <p:nvPr/>
        </p:nvPicPr>
        <p:blipFill>
          <a:blip r:embed="rId3"/>
          <a:stretch/>
        </p:blipFill>
        <p:spPr>
          <a:xfrm>
            <a:off x="1295280" y="1981080"/>
            <a:ext cx="6400800" cy="4286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  <p:sndAc>
      <p:stSnd>
        <p:snd r:embed="rId4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indward side of the Mountain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380880" y="1523520"/>
            <a:ext cx="83059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Mountains effect the climate of an are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These effects are called sea breezes and land breez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Air comes from the ocean, towards the mounta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It’s warm moist air comes toward the front of the mountain, as it rises, it gets coo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There is usually precipitation at the top of the mountain.  (Rain, snow, sleet, or hai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59" name="Picture 3" descr="climbers_890_600x450.jpg"/>
          <p:cNvPicPr/>
          <p:nvPr/>
        </p:nvPicPr>
        <p:blipFill>
          <a:blip r:embed="rId1"/>
          <a:stretch/>
        </p:blipFill>
        <p:spPr>
          <a:xfrm>
            <a:off x="2743200" y="259092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260" name=""/>
          <p:cNvSpPr/>
          <p:nvPr/>
        </p:nvSpPr>
        <p:spPr>
          <a:xfrm>
            <a:off x="1432080" y="341280"/>
            <a:ext cx="59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Top of the Mountain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wheel spokes="8"/>
    <p:sndAc>
      <p:stSnd>
        <p:snd r:embed="rId2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cc"/>
                </a:solidFill>
                <a:latin typeface="Georgia"/>
              </a:rPr>
              <a:t>Leeward Side of Mountai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As the air goes down the other side of the mountain it gets warm &amp; dr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The climate of the leeward side is a deser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63" name="Picture 3" descr="dessert.jpg"/>
          <p:cNvPicPr/>
          <p:nvPr/>
        </p:nvPicPr>
        <p:blipFill>
          <a:blip r:embed="rId1"/>
          <a:stretch/>
        </p:blipFill>
        <p:spPr>
          <a:xfrm>
            <a:off x="2133720" y="3124080"/>
            <a:ext cx="5410080" cy="289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5791320" y="5791320"/>
            <a:ext cx="2895480" cy="685800"/>
          </a:xfrm>
          <a:prstGeom prst="rect">
            <a:avLst/>
          </a:prstGeom>
          <a:solidFill>
            <a:srgbClr val="cc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5" name=""/>
          <p:cNvSpPr/>
          <p:nvPr/>
        </p:nvSpPr>
        <p:spPr>
          <a:xfrm>
            <a:off x="3886200" y="1981080"/>
            <a:ext cx="2286000" cy="4496040"/>
          </a:xfrm>
          <a:prstGeom prst="triangle">
            <a:avLst>
              <a:gd name="adj" fmla="val 50000"/>
            </a:avLst>
          </a:prstGeom>
          <a:solidFill>
            <a:srgbClr val="694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6" name=""/>
          <p:cNvSpPr/>
          <p:nvPr/>
        </p:nvSpPr>
        <p:spPr>
          <a:xfrm>
            <a:off x="304920" y="5791320"/>
            <a:ext cx="2286000" cy="6858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ean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7" name=""/>
          <p:cNvSpPr/>
          <p:nvPr/>
        </p:nvSpPr>
        <p:spPr>
          <a:xfrm>
            <a:off x="2133720" y="2133720"/>
            <a:ext cx="3352680" cy="4343400"/>
          </a:xfrm>
          <a:prstGeom prst="triangle">
            <a:avLst>
              <a:gd name="adj" fmla="val 50000"/>
            </a:avLst>
          </a:prstGeom>
          <a:solidFill>
            <a:srgbClr val="694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untain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8" name=""/>
          <p:cNvSpPr/>
          <p:nvPr/>
        </p:nvSpPr>
        <p:spPr>
          <a:xfrm>
            <a:off x="1523880" y="480060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9" name=""/>
          <p:cNvSpPr/>
          <p:nvPr/>
        </p:nvSpPr>
        <p:spPr>
          <a:xfrm rot="1582800">
            <a:off x="2057040" y="28954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0" name=""/>
          <p:cNvSpPr/>
          <p:nvPr/>
        </p:nvSpPr>
        <p:spPr>
          <a:xfrm rot="1068000">
            <a:off x="1676160" y="396216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1" name=""/>
          <p:cNvSpPr/>
          <p:nvPr/>
        </p:nvSpPr>
        <p:spPr>
          <a:xfrm rot="1882200">
            <a:off x="2590560" y="213372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2" name=""/>
          <p:cNvSpPr/>
          <p:nvPr/>
        </p:nvSpPr>
        <p:spPr>
          <a:xfrm>
            <a:off x="230400" y="312408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m and wet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3" name=""/>
          <p:cNvSpPr/>
          <p:nvPr/>
        </p:nvSpPr>
        <p:spPr>
          <a:xfrm>
            <a:off x="3205080" y="228600"/>
            <a:ext cx="27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ol air and precipitation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found at the top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4" name=""/>
          <p:cNvSpPr/>
          <p:nvPr/>
        </p:nvSpPr>
        <p:spPr>
          <a:xfrm>
            <a:off x="3124080" y="1752480"/>
            <a:ext cx="2438640" cy="2438640"/>
          </a:xfrm>
          <a:prstGeom prst="triangle">
            <a:avLst>
              <a:gd name="adj" fmla="val 50000"/>
            </a:avLst>
          </a:prstGeom>
          <a:solidFill>
            <a:srgbClr val="694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5" name=""/>
          <p:cNvSpPr/>
          <p:nvPr/>
        </p:nvSpPr>
        <p:spPr>
          <a:xfrm rot="8449800">
            <a:off x="6248160" y="198072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6" name=""/>
          <p:cNvSpPr/>
          <p:nvPr/>
        </p:nvSpPr>
        <p:spPr>
          <a:xfrm rot="9439200">
            <a:off x="6705360" y="297180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7" name=""/>
          <p:cNvSpPr/>
          <p:nvPr/>
        </p:nvSpPr>
        <p:spPr>
          <a:xfrm rot="9483000">
            <a:off x="6934320" y="396252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8" name=""/>
          <p:cNvSpPr/>
          <p:nvPr/>
        </p:nvSpPr>
        <p:spPr>
          <a:xfrm rot="9896400">
            <a:off x="7085880" y="480024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9" name=""/>
          <p:cNvSpPr/>
          <p:nvPr/>
        </p:nvSpPr>
        <p:spPr>
          <a:xfrm>
            <a:off x="7317000" y="304812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m and dry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1"/>
          <a:stretch/>
        </p:blipFill>
        <p:spPr>
          <a:xfrm>
            <a:off x="7620120" y="4114800"/>
            <a:ext cx="942840" cy="169380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>
            <a:off x="4114800" y="9907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2" name=""/>
          <p:cNvSpPr/>
          <p:nvPr/>
        </p:nvSpPr>
        <p:spPr>
          <a:xfrm>
            <a:off x="3505320" y="9907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3" name=""/>
          <p:cNvSpPr/>
          <p:nvPr/>
        </p:nvSpPr>
        <p:spPr>
          <a:xfrm>
            <a:off x="4724280" y="9907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9" dur="2000" fill="hold"/>
                                        <p:tgtEl>
                                          <p:spTgt spid="1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1" dur="2000" fill="hold"/>
                                        <p:tgtEl>
                                          <p:spTgt spid="1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3" dur="2000" fill="hold"/>
                                        <p:tgtEl>
                                          <p:spTgt spid="1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18:17:48Z</dcterms:created>
  <dc:creator> </dc:creator>
  <dc:description/>
  <dc:language>en-US</dc:language>
  <cp:lastModifiedBy>Michele Cochran</cp:lastModifiedBy>
  <dcterms:modified xsi:type="dcterms:W3CDTF">2012-03-31T15:57:50Z</dcterms:modified>
  <cp:revision>13</cp:revision>
  <dc:subject/>
  <dc:title>Mountain Effects</dc:title>
</cp:coreProperties>
</file>